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9D7-5743-4C97-9757-1017EC4F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AF2-17BA-4931-A6AE-86D5AF28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020-7D00-4B3B-BB38-9CE3A2A9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286-6562-4B97-8BD1-533A2485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9ED-2E14-4C0B-96FA-85407E32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245-5D26-4F10-8D2B-D93B9D36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C02-8EC6-4443-91D9-478175A8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4B7-EF34-4358-BC61-364292D1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C0A-FCE2-4A0C-9711-1F402408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627-6797-4116-BCC9-9DC1143E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4DB-CB92-4968-AD36-317880A6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A96-F8AB-4533-98F9-79B5D590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16EC-4F0B-497D-A472-9F7D6E020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k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Olivia Snod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opic is junk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 St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38102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e C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ce cre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d as one of the junk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delicious but very unheal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2314800" cy="2263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952880" y="2895480"/>
            <a:ext cx="1424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fries are yummy but bad for you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very gr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43800" y="1981080"/>
            <a:ext cx="1039680" cy="1747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2133720"/>
            <a:ext cx="1411200" cy="144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181480" y="3505320"/>
            <a:ext cx="23004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uts are great but not for your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icing and sprinkles and glaze all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09680" y="1752480"/>
            <a:ext cx="2486160" cy="1844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2484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y is sweet but sometimes to sw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y rots your teeth and gives you cavities or maybe even a broken 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24280" y="1689120"/>
            <a:ext cx="54864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7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za has a lot of grease and che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ight just be the unhealthiest junk food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t of people know its bad but its so temp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08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39Z</dcterms:modified>
  <cp:revision>14</cp:revision>
  <dc:subject/>
  <dc:title>Junk Food</dc:title>
</cp:coreProperties>
</file>